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5B7-BC6B-450B-8290-7DD97CB3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12F-4D1F-4AE9-A34F-886C8A03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608-C9B0-47D0-B6AD-FBCBBF7A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029-E4F4-41D0-8BF8-B59477AA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D31-C20E-4445-8EFE-B07556BF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F9C-7FF1-4AE7-8CD6-68709C8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CD4-227D-432B-BD63-A0E47A61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EDE-569B-4AF9-8B04-2DF70C5F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678-78DB-4FBE-A3F5-99A78DF6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217-C107-4242-BC1F-A127D719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12C-3FA1-491F-81E3-636C0E0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0C3-2708-41ED-9E9C-AB74C3F1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17EC-9DB7-4721-8E4C-9692A6959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Delib%20Conj%20052-06.doc" TargetMode="External"/><Relationship Id="rId2" Type="http://schemas.openxmlformats.org/officeDocument/2006/relationships/hyperlink" Target="file:///Delib%20Conj%20052-06.doc" TargetMode="External"/><Relationship Id="rId3" Type="http://schemas.openxmlformats.org/officeDocument/2006/relationships/hyperlink" Target="file:///Delib%20Conj%20052-06.doc" TargetMode="External"/><Relationship Id="rId4" Type="http://schemas.openxmlformats.org/officeDocument/2006/relationships/hyperlink" Target="file:///Delib%20Conj%20063-07.doc" TargetMode="External"/><Relationship Id="rId5" Type="http://schemas.openxmlformats.org/officeDocument/2006/relationships/hyperlink" Target="file:///Delib%20Conj%20063-07.doc" TargetMode="External"/><Relationship Id="rId6" Type="http://schemas.openxmlformats.org/officeDocument/2006/relationships/hyperlink" Target="file:///Delib%20Conj%20063-07.doc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Delib%20Conj%20077-07.doc" TargetMode="External"/><Relationship Id="rId2" Type="http://schemas.openxmlformats.org/officeDocument/2006/relationships/hyperlink" Target="file:///Delib%20Conj%20077-07.doc" TargetMode="External"/><Relationship Id="rId3" Type="http://schemas.openxmlformats.org/officeDocument/2006/relationships/hyperlink" Target="file:///Delib%20Conj%20077-07.doc" TargetMode="External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988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 COBRANÇA PELO USO DE RECURSOS HÍDRICOS NAS BACIAS PC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361152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1280" y="2205000"/>
            <a:ext cx="7777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 Unicode MS"/>
              </a:rPr>
              <a:t>1. Edital com cronograma e regras de pontuação e hierarquização de empreendi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 Unicode MS"/>
                <a:hlinkClick r:id="rId1"/>
              </a:rPr>
              <a:t>Deliberação Conjunta dos Comitês PCJ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nº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 Unicode MS"/>
                <a:hlinkClick r:id="rId3"/>
              </a:rPr>
              <a:t> 52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 Unicode MS"/>
              </a:rPr>
              <a:t>2. Resultado final com as indicaçõ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 Unicode MS"/>
                <a:hlinkClick r:id="rId4"/>
              </a:rPr>
              <a:t>Deliberação Conjunta dos Comitês PCJ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 Unicode MS"/>
                <a:hlinkClick r:id="rId5"/>
              </a:rPr>
              <a:t>nº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 Unicode MS"/>
                <a:hlinkClick r:id="rId6"/>
              </a:rPr>
              <a:t> 63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907920"/>
            <a:ext cx="89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rebuchet MS"/>
              </a:rPr>
              <a:t>Regras da Aplicação dos Recursos, em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79800" y="0"/>
            <a:ext cx="51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branças (“federal” + “paulista”) + FEHI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7174080" y="563868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68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ado das Análises dos Empreend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74080" y="38160"/>
            <a:ext cx="1900080" cy="1181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83534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716040" y="1125360"/>
          <a:ext cx="7843680" cy="5070600"/>
        </p:xfrm>
        <a:graphic>
          <a:graphicData uri="http://schemas.openxmlformats.org/drawingml/2006/table">
            <a:tbl>
              <a:tblPr/>
              <a:tblGrid>
                <a:gridCol w="2055600"/>
                <a:gridCol w="1866960"/>
                <a:gridCol w="1960560"/>
                <a:gridCol w="1960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(R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sta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EAMENTO (Abast. Público na Estadu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7.775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577.916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45.69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90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ó a partir de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390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e9a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Ú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b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2.900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b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5.235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b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38.136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b0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O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rbano Privado na Estad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5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4.908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.913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S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35.383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99.636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735.019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238.455,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.307.697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4.546.152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0" y="54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ecursos financeiros das cobranças PCJ em 2007: valores nom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74080" y="563868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4120" y="1557360"/>
            <a:ext cx="4919760" cy="38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4240" y="2852640"/>
            <a:ext cx="3630600" cy="129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0" y="62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ecursos financeiros das cobranças PCJ em 2007: valores nom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74080" y="563868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USUÁRIOS POR SE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484280"/>
          <a:ext cx="8229600" cy="4513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AL G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6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ASTECIMENTO PÚB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O PRIV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SI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4572000" y="6165720"/>
            <a:ext cx="4038480" cy="368280"/>
          </a:xfrm>
          <a:prstGeom prst="rect">
            <a:avLst/>
          </a:prstGeom>
          <a:solidFill>
            <a:srgbClr val="ff99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OTAL GERAL :  97 usu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Federal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85040" y="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USUÁRIOS POR SE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1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AL G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ASTECIMENTO PÚB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O PRIV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SI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4572000" y="6019920"/>
            <a:ext cx="4038480" cy="368280"/>
          </a:xfrm>
          <a:prstGeom prst="rect">
            <a:avLst/>
          </a:prstGeom>
          <a:solidFill>
            <a:srgbClr val="ff99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OTAL GERAL :  1.231 usu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Paulista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385040" y="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LORES EM R$ POR SE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00200"/>
          <a:ext cx="8229600" cy="4398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AL GERAL (R$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2.900,89 (16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ASTECIMENTO PÚB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7.775,09 (26,2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O PRIV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5,50 (0,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90,74 (0,1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SI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35.383,34 (56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572000" y="6308640"/>
            <a:ext cx="4114800" cy="3682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OTAL GERAL : R$ 13.238.455,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Federal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85040" y="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LORES EM R$ POR SE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600200"/>
          <a:ext cx="8229600" cy="41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AL GERAL (R$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15.235,92 (19,6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ASTECIMENTO PÚB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77.916,81 (58,2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O PRIV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.908,46 (2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SI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99.636,00 (19,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4572000" y="6019920"/>
            <a:ext cx="4114800" cy="3682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OTAL GERAL : R$ 11.307.697,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Paulista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85040" y="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REVISÃO DE ARRECADAÇÃO </a:t>
            </a:r>
            <a:br>
              <a:rPr sz="2800"/>
            </a:b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x </a:t>
            </a:r>
            <a:br>
              <a:rPr sz="2800"/>
            </a:b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OTAL ARRECA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2924280"/>
          <a:ext cx="8218440" cy="2151000"/>
        </p:xfrm>
        <a:graphic>
          <a:graphicData uri="http://schemas.openxmlformats.org/drawingml/2006/table">
            <a:tbl>
              <a:tblPr/>
              <a:tblGrid>
                <a:gridCol w="3322440"/>
                <a:gridCol w="2262240"/>
                <a:gridCol w="263376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REVISÃO DE ARRECAD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AL ARRECAD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% ADIMPLÊ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3.238.455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2.779.237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1.307.697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9.804.233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755640" y="18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s Federal e  Paulista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08360" y="551664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INADIMPLÊNCIA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1844640"/>
            <a:ext cx="8137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OTAL DE USUÁRIOS INADIMPLENTES: 332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VALOR (R$): 1.484.968,09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INCIPAIS USUÁRIOS: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 SETOR INDUSTRIAL: 1 principal (R$ 518.606,22)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 ABASTECIMENTO PÚBLICO: 4 principais (R$ 651.881,14)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 TOTAL principais usuários: R$ 1.170.487,36 (7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708360" y="5516640"/>
            <a:ext cx="1758960" cy="1093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Paulista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160" y="990720"/>
            <a:ext cx="8440560" cy="580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40" y="571500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507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REVISÃO DE ARRECADAÇÃO PARA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893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TAL DE USUÁRIO A SEREM COBRADOS: 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TAL (SEM ABATIMENTO):  R$ 17.691.663,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TAL DOS ABATIMENTOS AUTORIZADOS: R$ 37.618,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EVISÃO DE ARRECADAÇÃO  - 2008: R$ 17.654.044,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08360" y="5516640"/>
            <a:ext cx="1758960" cy="1093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507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REVISÃO DE ARRECADAÇÃO PARA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893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TAL DE USUÁRIO A SEREM COBRADOS: 13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TAL (SEM ABATIMENTO):  R$ 14.177.645,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TAL DOS ABATIMENTOS (AINDA NÃO ANALISADO): R$1.073.695,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EVISÃO DE ARRECADAÇÃO  - 2008: R$ 13.103.950,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708360" y="5516640"/>
            <a:ext cx="1758960" cy="1093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Pau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2360" y="1125360"/>
            <a:ext cx="8707320" cy="46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- Resultados parci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OBRANÇA FED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m 2006 a adimplência foi superior a 99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m 2007, até o momento, a adimplência é da ordem de 96%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OBRANÇA PAULIS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é o momento, cerca de 87% de adimpl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27440" y="7632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476280"/>
            <a:ext cx="91440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- Recursos financeiros distribuídos nas Bacias PC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té 2005 somente recursos do FEHI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HIDRO: R$ 5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m 2006: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$ 15,3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HIDRO: R$ 5,1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brança federal: R$ 10,2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m 2007: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$ 29,2 milhões (estimativa de arrecadação e saldos de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HIDRO: R$ 5,1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brança federal: R$ 13,6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brança paulista: R$ 10,5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pectativa de distribuição para o ano de 2008: R$ 32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5040" y="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125360"/>
            <a:ext cx="914400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Recursos financeiros distribuídos nas Bacias PCJ: Cobrança Fed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Período 2006/2007: 34 empreendimentos ind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Situ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31 contratados (CEF/Ag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9 com pendências técnicas/jurídicas para lic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13 em lic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6 em 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3 concluídos (Rel. Sit. 2004/2006; Ações Gestão; SG-Trat. Lodo 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3 não contratados (Rel. Sit 2007; Prod. de Água; Fórum Ent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385040" y="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8080"/>
                </a:solidFill>
                <a:uFillTx/>
                <a:latin typeface="Book Antiqua"/>
              </a:rPr>
              <a:t>Considerações fin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12800"/>
            <a:ext cx="9144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Os resultados do processo demandam tempo para serem no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341360"/>
            <a:ext cx="9144000" cy="1702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- Os valores cobrados atualmente não atendem às expectativas. Na década de 90 estudos apontavam para uma arrecadação anual de  aproximadamente R$ 60 milhões, contra os atuais R$ 29,2 milhões (previsão para 200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84640"/>
            <a:ext cx="9144000" cy="1410480"/>
          </a:xfrm>
          <a:prstGeom prst="rect">
            <a:avLst/>
          </a:prstGeom>
          <a:solidFill>
            <a:srgbClr val="f83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AS COBRANÇAS NÃO FORAM IMPOSTAS, FORAM CONSENSADAS COM OS SETORES DA SOCIEDADE ENVOLV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867200"/>
            <a:ext cx="9144000" cy="1994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- As bacias PCJ aguardam a implantação do comitê da porção mineira da bacia e, consequentemente a cobrança naquela região, finalizando, assim a implantação de TODOS os instrumentos de gestão de recursos hídricos na totalidade das bacias PC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018640" y="38160"/>
            <a:ext cx="1055520" cy="65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4149720"/>
            <a:ext cx="9144000" cy="21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Diferenciar os valores de cobrança de acordo com a situação do local do uso (classe do manancial, disponibilidade, tipo de uso, entre outros), sempre embasado no Plano de Bacias: TRANSFORMAR A COBRANÇA EM INSTRUMENTO DE GESTÃ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8080"/>
                </a:solidFill>
                <a:uFillTx/>
                <a:latin typeface="Book Antiqua"/>
              </a:rPr>
              <a:t>Considerações fin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268280"/>
            <a:ext cx="9144000" cy="162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Faz-se necessário a contratação de estudos mais detalhados sobre o impacto da cobrança pelo uso dos recursos hídricos nos diversos setores produ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018640" y="38160"/>
            <a:ext cx="1055520" cy="65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 dos recursos das cobranças PCJ e FEHIDRO –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liberação Conjunta dos Comitês PCJ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º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77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692360" y="3284640"/>
            <a:ext cx="5773680" cy="3303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0" y="1052640"/>
            <a:ext cx="91440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041800" cy="2897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2916360" y="3645000"/>
            <a:ext cx="3097080" cy="27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1197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Características Gera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844640"/>
            <a:ext cx="590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) Nº de Municíp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1 (57 c/ sede) paulistas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5 (4 c/ sede) min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708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) Área total das Bacias PC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.320 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3440" y="3284640"/>
            <a:ext cx="710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) Populaçã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milhões de hab. (São Paulo) e  70.000 hab.      (Minas Gerais), com previsão de 6,5 milhões para 20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4149720"/>
            <a:ext cx="7991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Times New Roman"/>
              </a:rPr>
              <a:t>4) Índice atual de tratamento de esgotos urbano: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Times New Roman"/>
              </a:rPr>
              <a:t>5) Demanda de água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42 m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s (51 m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s em 2020) + 31 m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s p/ RM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Times New Roman"/>
              </a:rPr>
              <a:t>6) Relação Demanda/Disponibilidade: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13% (2003) e 138% (20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Times New Roman"/>
              </a:rPr>
              <a:t>7) Carga poluidora (t DBO/dia) rem.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185(urb) + 56(ind) = 24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32720" y="836640"/>
            <a:ext cx="1828800" cy="175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27440" y="4932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1523880"/>
            <a:ext cx="1828800" cy="1757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1160" y="1905120"/>
            <a:ext cx="88628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Área total das Bacias PC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320 K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acicaba: 12.60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82,2% PC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320 (SP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73,8% PCJ + 1.280 (MG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8,4% PC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ivari: 1.57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,2%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diaí: 1.15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7,6%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tareira: 1.967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5,6% (Piracicaba) 12,8% (PCJ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bacia do Atibaia: 71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5,3% (área total de 2.82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bacia do Jaguari: 1.25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9% (área total c/ Camanducaia: 4.32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160" y="1295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Características Ger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727440" y="4932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5480" y="762120"/>
            <a:ext cx="2610000" cy="289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978520" y="685800"/>
            <a:ext cx="2608200" cy="2876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87680" y="3733920"/>
            <a:ext cx="2608200" cy="2876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782960" y="3733920"/>
            <a:ext cx="2608560" cy="2876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30400" y="3298680"/>
            <a:ext cx="1468440" cy="3661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AS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3184560"/>
            <a:ext cx="1511280" cy="366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2760" y="6208560"/>
            <a:ext cx="1438200" cy="366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23040" y="6237360"/>
            <a:ext cx="1508040" cy="36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657600" y="49320"/>
            <a:ext cx="1758960" cy="1093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64000" y="23493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04000" cy="64069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156360" y="5805360"/>
            <a:ext cx="2987640" cy="891360"/>
            <a:chOff x="6156360" y="5805360"/>
            <a:chExt cx="2987640" cy="891360"/>
          </a:xfrm>
        </p:grpSpPr>
        <p:sp>
          <p:nvSpPr>
            <p:cNvPr id="70" name=""/>
            <p:cNvSpPr/>
            <p:nvPr/>
          </p:nvSpPr>
          <p:spPr>
            <a:xfrm>
              <a:off x="6156360" y="5805360"/>
              <a:ext cx="29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alidade das águ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6920" y="6237000"/>
              <a:ext cx="272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creto x rea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576432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268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timativa da evolução da arrecadação com as Cobranças PCJ (SP + F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2480" y="5877000"/>
            <a:ext cx="75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” Total per capita = R$ 7,40/ano ou R$ 0,62/mê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174080" y="3816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4438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3149"/>
              </a:spcBef>
              <a:spcAft>
                <a:spcPts val="31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brança “federal”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10,7 Milhõ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EHIDRO (GESP)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5,1 Milhõ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TOTA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15,6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5000" y="13413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Arrecad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2400" y="134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6200" y="1917720"/>
            <a:ext cx="3122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aneament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11,6 Milhõ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usteio e Gestã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3,7 Milhõ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trapartidas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7,2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TOTA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22,5 Milh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4320" y="549360"/>
            <a:ext cx="89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rebuchet MS"/>
              </a:rPr>
              <a:t>Resumo da Arrecadação x Aplicação em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79800" y="0"/>
            <a:ext cx="51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brança em Rios de Domínio da União + FEHI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74080" y="563868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874520"/>
            <a:ext cx="44388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brança “federal”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13,2 Milhõ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brança “paulista”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11,4 Milhõe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adimplência prevista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0,70 Milhõ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EHIDRO (GESP)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5,2 Milhõ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TOTA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29,1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240" y="134136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Estimativa de Arrecad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2400" y="134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72160" y="1989000"/>
            <a:ext cx="317484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usteio e Gestã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4,4 Milhõ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aneament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21,1 Milhõ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utras açõe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3,6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trapartidas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20,0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TOTA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49,1 Milh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4320" y="549360"/>
            <a:ext cx="89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rebuchet MS"/>
              </a:rPr>
              <a:t>Resumo da Estimativa de Arrecadação x Aplicação em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79800" y="0"/>
            <a:ext cx="51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branças (“federal” + “paulista”) + FEHI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74080" y="563868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20:24:49Z</dcterms:created>
  <dc:creator>Cecilia de B. Aranha</dc:creator>
  <dc:description/>
  <dc:language>en-US</dc:language>
  <cp:lastModifiedBy>lmoretti</cp:lastModifiedBy>
  <dcterms:modified xsi:type="dcterms:W3CDTF">2008-02-27T12:46:39Z</dcterms:modified>
  <cp:revision>80</cp:revision>
  <dc:subject/>
  <dc:title>Slide 1</dc:title>
</cp:coreProperties>
</file>